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C89C-4B6D-4E8D-8CB9-70C5206E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D10E-5AC8-4630-ADFD-932D81C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D9CB-0AEA-404D-BE0D-4AB06019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A79E-AED4-40EE-8B5D-AF580C6C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92A9-8665-4A5C-8A72-7DF0534A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3D34-117D-4DCE-93A0-0A75109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ABEA-3BDB-4DD8-B062-25CACA0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9678-2F6C-432E-B275-83FC79A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BC82-CA35-49EA-92B9-4B29206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87A-B4DD-4F87-B1C0-8769627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803C-D2CB-41DC-A1FB-02E58D2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3249-F4C0-4518-86FE-7526540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37C4-9259-4509-9ECA-73F6B10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3EC3-4EB9-452B-937D-8DEA475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B0A5-25BD-4006-8B20-440AC6E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5696-B738-43A3-839C-ACFD868A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211-177E-4394-AD66-AD50DFD4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2E7C-E023-4F81-9735-3D8AE97E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264F-2B16-4AB1-B1A9-75379C3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D871-C32D-4BE5-B5E8-7A554E0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8A54-60AE-4B0A-8BB7-B94FCEE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04DB-F8A9-4947-9C69-08B6D67D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1309-1359-4122-9A04-F9BDC13A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03DB-7013-4CF8-9128-952B69E5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A7B1-7D4F-4460-AC09-E4C27D5E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469F-7E6A-42A5-AD93-1421EA5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62E9-87B0-42D6-BCBE-1AF625D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FC3A-E377-4E01-B4BE-FFF14FE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6A4E-82F1-4273-B494-E199E56C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8C1-4E08-499B-9A60-DF2B92C2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42E5F-91EA-411D-A14A-3C13D34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7E0F-2A21-4F7E-94DE-51CC145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370C-8A23-4228-91EA-5E45099B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E7F6-5EAC-47E8-BD2B-33CF9BC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73B3-815E-4B67-96DF-779EF1BB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E6D0-B153-4824-9D04-E554861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5DA6-0515-469F-B473-8D68F56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0EFC-DC96-4E0B-AB86-58CFE6B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8EFB-E63D-45B5-8BF5-172FECC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CF14-1121-4379-8BF4-D011084F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2435-9665-430D-9F15-8C6A9C28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AD74-3BF9-42B6-BA3D-9317DB9B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85C7-582E-45D6-9193-FB19D2F1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F385-2921-4771-85EE-1F3D9A5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0A56-4479-4946-BB9D-241247A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59A4-BA9C-496D-8008-7733583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BB2E-FE11-4ED9-909C-0FA84E5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A9F2-EEDB-4F7A-8359-D6511C8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D45C-EC71-4B6D-92FD-51C0677C1F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2054-2CC3-46BF-8086-2798FD74C6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083D-57CB-40C3-B446-396F7E7B44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9E9-C83B-42E0-9B68-A5715DF99E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amazon.com/gp/reader/0698116151/ref=sib_dp_pt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amazon.com/gp/reader/0689844476/ref=sib_dp_pt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Patricia Polacco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rn in Lansing, Michigan in July 11 1944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r lif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ved in Williamston, Michigan until her parents got divorced when she was 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hild she was shy, and spent a lot of her time in her imagination because is were she felt safe and g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68600" y="3976560"/>
            <a:ext cx="1332000" cy="1597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1371600" cy="1952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743200" y="2209680"/>
            <a:ext cx="1495440" cy="100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80880" y="1828800"/>
            <a:ext cx="171468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learned to read at age 14, also she was diagnosed with dyslex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has studied in the United States and Australia, and she has both a bachelor’s and master’s degree in Fine Art and a PhD in Art Hi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is a mother of two childr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08400" y="304920"/>
            <a:ext cx="731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e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3926160" cy="205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66640" y="3955680"/>
            <a:ext cx="3926160" cy="2063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e started writing books when she was 41 years old, she is also the illustra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of her books have been translated into Spanish for example Chicken Sunday, Pink and Say, The Keeping Qui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Chicken Sunda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828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he Keeping Quilt (Aladdin Picture Books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acco directs many of her books to primary grade audie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ral of her books are retellings of family sto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e uses fantasy and folklore as a point for her stories, she also mixes fantasy and realism in several of her work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r Inspi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800600" y="121932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3548160"/>
            <a:ext cx="800100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lationship with her grandparents influenced her life and 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is well known for celebrating different cultures and ethnic backgrounds in her boo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lived in Union City Michigan, then she went to New York and Oakland Californ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1927080" cy="2114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2286000" y="1905120"/>
            <a:ext cx="19051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ia is currently working at events like writing seminars, story telling festivals, literature conferences and various events that celebrate children's literatur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1162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41:51Z</dcterms:created>
  <dc:creator>Ozzie Jaime</dc:creator>
  <dc:description/>
  <dc:language>en-US</dc:language>
  <cp:lastModifiedBy>caitlin halstead</cp:lastModifiedBy>
  <dcterms:modified xsi:type="dcterms:W3CDTF">2008-06-30T15:20:48Z</dcterms:modified>
  <cp:revision>12</cp:revision>
  <dc:subject/>
  <dc:title>Patricia Polacco</dc:title>
</cp:coreProperties>
</file>